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D1F4-823C-48CD-81F2-A3F904A5F2F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CCB6-9BE3-4407-B0D3-E9FBE60B38A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A7AB-17E1-4E40-B9BD-DE5EC495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CBA9-493B-4B5F-9999-0F7216E2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D35D-D0D1-43FA-B9CF-5E2DB937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7E1-A46C-4F1D-9522-C53417A8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3E28-B7D5-45F1-9FB9-C438B602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F4F9-B3D9-43AB-9DDF-A1A0F436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A0D-B2B1-4CD9-92BE-85D45B48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CE5B-7043-420F-8E45-1299EBC2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4BAB-242F-4464-BFF5-AF8E407E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8091-859E-4767-B278-0AB1B257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75FE-F998-4D66-AE05-86893974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317F-ECEB-4152-BE5D-4C525B96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098D-24B4-4287-AE9F-C5067AC11D1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google.com.mx/imgres?imgurl=http://www.galeriade.com/Charo/data/media/6/Lobo1-.jpg&amp;imgrefurl=http://www.galeriade.com/Charo/details.php%3Fimage_id%3D406%26sessionid%3De6bc84fd4126bd3f012b0f37b08aa5f6&amp;usg=___hvJ3qnjnoCzaS02wdE0zph7iRY=&amp;h=880&amp;w=694&amp;sz=233&amp;hl=es&amp;start=13&amp;zoom=1&amp;itbs=1&amp;tbnid=rrxFH1opofkRcM:&amp;tbnh=146&amp;tbnw=115&amp;prev=/search%3Fq%3Dlobo%2Bblanco%26hl%3Des%26biw%3D763%26bih%3D398%26gbv%3D2%26tbm%3Disch&amp;ei=hhfyTcP7LcGftwfmiq2SAw" TargetMode="External"/><Relationship Id="rId3" Type="http://schemas.openxmlformats.org/officeDocument/2006/relationships/image" Target="../media/image48.jpeg"/><Relationship Id="rId4" Type="http://schemas.openxmlformats.org/officeDocument/2006/relationships/hyperlink" Target="http://www.google.com.mx/imgres?imgurl=http://www.woomascotas.com/wp-content/uploads/2009/01/mascotas-conejos.jpg&amp;imgrefurl=http://www.woomascotas.com/2009/01/27/animales-de-granja-como-mascotas-el-conejo/&amp;usg=__Vb9rhE8fFrRjeCIp7_61o9Gc9uo=&amp;h=380&amp;w=400&amp;sz=75&amp;hl=es&amp;start=5&amp;zoom=1&amp;itbs=1&amp;tbnid=NN93LbNqtqNHOM:&amp;tbnh=118&amp;tbnw=124&amp;prev=/search%3Fq%3Dconejo%26hl%3Des%26biw%3D763%26bih%3D398%26gbv%3D2%26tbm%3Disch&amp;ei=oRfyTY3QMM21tweZ4b3nAg" TargetMode="External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45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LOQUE 2: LECCION 2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nutrición de los seres vivos: diversidad y adap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ttp://t1.gstatic.com/images?q=tbn:ANd9GcQSDtrHWQgYfOrzCzMYOdGrs7zLZTdJYPjFsk1XV5xVMHeJyP6Qsw"/>
          <p:cNvPicPr/>
          <p:nvPr/>
        </p:nvPicPr>
        <p:blipFill>
          <a:blip r:embed="rId2"/>
          <a:stretch/>
        </p:blipFill>
        <p:spPr>
          <a:xfrm rot="19222800">
            <a:off x="1979280" y="3084120"/>
            <a:ext cx="1942920" cy="1461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http://t0.gstatic.com/images?q=tbn:ANd9GcQ6dUckExlj7CEZ1UdwIZCZjN4jXpNfBUbQxbxSsGynW_wwgWGh"/>
          <p:cNvPicPr/>
          <p:nvPr/>
        </p:nvPicPr>
        <p:blipFill>
          <a:blip r:embed="rId3"/>
          <a:stretch/>
        </p:blipFill>
        <p:spPr>
          <a:xfrm rot="20142600">
            <a:off x="2779200" y="3998520"/>
            <a:ext cx="1602000" cy="128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t0.gstatic.com/images?q=tbn:ANd9GcT4dMap68pzLkaU7BysWVJw69uZpuANWvxeI7_KO_Z3Po_usjYL"/>
          <p:cNvPicPr/>
          <p:nvPr/>
        </p:nvPicPr>
        <p:blipFill>
          <a:blip r:embed="rId4"/>
          <a:stretch/>
        </p:blipFill>
        <p:spPr>
          <a:xfrm>
            <a:off x="4037040" y="2970360"/>
            <a:ext cx="1506600" cy="1131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http://www.santi.com.es/imagenes/image/cebra.bmp"/>
          <p:cNvPicPr/>
          <p:nvPr/>
        </p:nvPicPr>
        <p:blipFill>
          <a:blip r:embed="rId5"/>
          <a:stretch/>
        </p:blipFill>
        <p:spPr>
          <a:xfrm rot="463800">
            <a:off x="2436480" y="4835520"/>
            <a:ext cx="2171520" cy="144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t3.gstatic.com/images?q=tbn:ANd9GcTZW3OFvgdHFDudFdNh7Hz2qrMUjy-cKsSKmU0FLyS9Qiu9jjcNNA"/>
          <p:cNvPicPr/>
          <p:nvPr/>
        </p:nvPicPr>
        <p:blipFill>
          <a:blip r:embed="rId6"/>
          <a:stretch/>
        </p:blipFill>
        <p:spPr>
          <a:xfrm>
            <a:off x="4265640" y="4113360"/>
            <a:ext cx="1371600" cy="1190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http://t1.gstatic.com/images?q=tbn:ANd9GcRwfY5G6mQKurTsKUkAuS3hYjR95flR2Lcl71w9CxLMA7JfFzkX"/>
          <p:cNvPicPr/>
          <p:nvPr/>
        </p:nvPicPr>
        <p:blipFill>
          <a:blip r:embed="rId7"/>
          <a:stretch/>
        </p:blipFill>
        <p:spPr>
          <a:xfrm rot="2251200">
            <a:off x="3271320" y="2408400"/>
            <a:ext cx="1143000" cy="79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://www.proprofs.com/games/puzzle/sliding/upload/446575_1292244772.jpg"/>
          <p:cNvPicPr/>
          <p:nvPr/>
        </p:nvPicPr>
        <p:blipFill>
          <a:blip r:embed="rId8"/>
          <a:stretch/>
        </p:blipFill>
        <p:spPr>
          <a:xfrm>
            <a:off x="4494240" y="5256360"/>
            <a:ext cx="1257120" cy="1257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t2.gstatic.com/images?q=tbn:ANd9GcRA1aw2LfbimluwLzjJaGpg5L1tEA2WM935_Mn02jup7TqpuiK5"/>
          <p:cNvPicPr/>
          <p:nvPr/>
        </p:nvPicPr>
        <p:blipFill>
          <a:blip r:embed="rId9"/>
          <a:stretch/>
        </p:blipFill>
        <p:spPr>
          <a:xfrm rot="5400000">
            <a:off x="1563840" y="4040280"/>
            <a:ext cx="1257120" cy="94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http://t0.gstatic.com/images?q=tbn:ANd9GcRf-3JXQDYOpCSrsm_i6SBV-pIgAEPucAqquDs7sW7PXOUzFhsr1w"/>
          <p:cNvPicPr/>
          <p:nvPr/>
        </p:nvPicPr>
        <p:blipFill>
          <a:blip r:embed="rId10"/>
          <a:stretch/>
        </p:blipFill>
        <p:spPr>
          <a:xfrm rot="15286800">
            <a:off x="1660320" y="5232240"/>
            <a:ext cx="1257120" cy="847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4"/>
          <p:cNvSpPr/>
          <p:nvPr/>
        </p:nvSpPr>
        <p:spPr>
          <a:xfrm>
            <a:off x="6372360" y="443700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588000" y="4365720"/>
            <a:ext cx="25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5 CuadroTexto"/>
          <p:cNvSpPr/>
          <p:nvPr/>
        </p:nvSpPr>
        <p:spPr>
          <a:xfrm>
            <a:off x="5857920" y="4157640"/>
            <a:ext cx="32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rtínez Duarte Luz E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rtínez Yavuy Blanca Ixch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rtínez Cruz Sandra Pa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éndez Meza Car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ani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Son pluricelulares y viven tanto en ambientes terrestres o acuáticos y se clasifican por su alimentación en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Fitófagos                    ( comen vegetale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Herbívoros                   (comen pasto y planta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http://www.forodefotos.com/attachments/fotos-de-animales-salvajes/2829d1220896047-fondos-de-pantalla-de-conejo-fondos-de-pantalla-de-conejo.jpg"/>
          <p:cNvPicPr/>
          <p:nvPr/>
        </p:nvPicPr>
        <p:blipFill>
          <a:blip r:embed="rId2"/>
          <a:stretch/>
        </p:blipFill>
        <p:spPr>
          <a:xfrm>
            <a:off x="2843280" y="3213000"/>
            <a:ext cx="1181160" cy="1440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mascotas.org/wp-content/uploads/jirafa1.jpg"/>
          <p:cNvPicPr/>
          <p:nvPr/>
        </p:nvPicPr>
        <p:blipFill>
          <a:blip r:embed="rId3"/>
          <a:stretch/>
        </p:blipFill>
        <p:spPr>
          <a:xfrm>
            <a:off x="2843280" y="4941720"/>
            <a:ext cx="1793880" cy="998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Carnívoros                    ( comen carn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Omnívoros                    (comen carne y    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vegetales)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Detritivoros                        (se alimentan de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materia orgánica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t0.gstatic.com/images?q=tbn:ANd9GcSgskTAzwtnpVgwehD_eSGoC2RWbOQmj0dUwV4Oq5DVer9C5VSM"/>
          <p:cNvPicPr/>
          <p:nvPr/>
        </p:nvPicPr>
        <p:blipFill>
          <a:blip r:embed="rId2"/>
          <a:stretch/>
        </p:blipFill>
        <p:spPr>
          <a:xfrm>
            <a:off x="2916360" y="549360"/>
            <a:ext cx="1871640" cy="1244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http://t1.gstatic.com/images?q=tbn:ANd9GcQQ57BN--lD-mllMx4qx2zP1VKkOYzmDJLNgJ8zPZ5iHnXQYPp8"/>
          <p:cNvPicPr/>
          <p:nvPr/>
        </p:nvPicPr>
        <p:blipFill>
          <a:blip r:embed="rId3"/>
          <a:stretch/>
        </p:blipFill>
        <p:spPr>
          <a:xfrm>
            <a:off x="2987640" y="2708280"/>
            <a:ext cx="1714680" cy="1290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http://galeon.hispavista.com/diviertete2000/img/lombriz"/>
          <p:cNvPicPr/>
          <p:nvPr/>
        </p:nvPicPr>
        <p:blipFill>
          <a:blip r:embed="rId4"/>
          <a:stretch/>
        </p:blipFill>
        <p:spPr>
          <a:xfrm>
            <a:off x="2771640" y="4508640"/>
            <a:ext cx="1828800" cy="1361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álisis de algunas adaptaciones en la nutrición de los seres vivos: la interacción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predador - 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predador: es cuando una especie se come a o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a: son los animales ca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los depredad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http://t0.gstatic.com/images?q=tbn:ANd9GcSXHfVbKb5DX1duPos7g0f-GC1S9YvgiHmb_f6DI8L4g5l837duQQ"/>
          <p:cNvPicPr/>
          <p:nvPr/>
        </p:nvPicPr>
        <p:blipFill>
          <a:blip r:embed="rId2"/>
          <a:stretch/>
        </p:blipFill>
        <p:spPr>
          <a:xfrm>
            <a:off x="4356000" y="2997360"/>
            <a:ext cx="2160720" cy="1442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t0.gstatic.com/images?q=tbn:ANd9GcRWrxAmfPO9oslvWzFzPb0H4CTm7CWphgwW9BIzlkR600YzS9pt0A"/>
          <p:cNvPicPr/>
          <p:nvPr/>
        </p:nvPicPr>
        <p:blipFill>
          <a:blip r:embed="rId3"/>
          <a:stretch/>
        </p:blipFill>
        <p:spPr>
          <a:xfrm>
            <a:off x="971640" y="4292640"/>
            <a:ext cx="1288800" cy="1585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no ocurre la adaptación entre los depredadores y presas una de las dos poblaciones se extinguirá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http://t2.gstatic.com/images?q=tbn:ANd9GcRpUy3TtMxydonXKFpk_9AEXdpo-lYPp7hIj7nc7LHSB9QS7XEV"/>
          <p:cNvPicPr/>
          <p:nvPr/>
        </p:nvPicPr>
        <p:blipFill>
          <a:blip r:embed="rId2"/>
          <a:stretch/>
        </p:blipFill>
        <p:spPr>
          <a:xfrm>
            <a:off x="2268360" y="2708280"/>
            <a:ext cx="4105440" cy="30891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Valoración de la importancia de la fotosíntesis como proceso de transformación de energía y como base de las cadenas alimentarí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reve historia del descubrimiento de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istoria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l siglo IV el filosofo Aristóteles creía que las plantas obtenían sus alimentos del suelo pero no era así, si no que los alimentos los obtenían de la naturale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http://t3.gstatic.com/images?q=tbn:ANd9GcT_r2tBfJWwcOU0M_KAW7wu1wyngKFbND2FkmctXN9f9Rk2MOK7"/>
          <p:cNvPicPr/>
          <p:nvPr/>
        </p:nvPicPr>
        <p:blipFill>
          <a:blip r:embed="rId2"/>
          <a:stretch/>
        </p:blipFill>
        <p:spPr>
          <a:xfrm>
            <a:off x="2195640" y="5084640"/>
            <a:ext cx="1655640" cy="1460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http://t2.gstatic.com/images?q=tbn:ANd9GcRH7_xBeiFfvPEoPwCjKWezc0QDrDS3Y9uu9t3FkIiMuwtwyy09"/>
          <p:cNvPicPr/>
          <p:nvPr/>
        </p:nvPicPr>
        <p:blipFill>
          <a:blip r:embed="rId3"/>
          <a:stretch/>
        </p:blipFill>
        <p:spPr>
          <a:xfrm>
            <a:off x="5724360" y="4797360"/>
            <a:ext cx="1252800" cy="1663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o que se sabe actualmente de la fotosíntes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l proceso de la fotosíntesis 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uando la energía del sol llega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planta y con el dióxido 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arbono del aire y del agua 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omo el suelo, la planta elabo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Glucosa y oxigen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http://t2.gstatic.com/images?q=tbn:ANd9GcQMKOwDzrxxmaVEdPhQbRfkavlMNpnaOPI8qoxbV__iaADdpTTq"/>
          <p:cNvPicPr/>
          <p:nvPr/>
        </p:nvPicPr>
        <p:blipFill>
          <a:blip r:embed="rId2"/>
          <a:stretch/>
        </p:blipFill>
        <p:spPr>
          <a:xfrm>
            <a:off x="6443640" y="2060640"/>
            <a:ext cx="2112840" cy="3529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é pasa con la gluco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 una sustancia que diariamente ingieres al comer frutas o alimentos procesados endulzados con gluco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anza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fresc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aran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http://t2.gstatic.com/images?q=tbn:ANd9GcSkmQaNpGSjaMdDN31YtzP6LrxkKA2KnZTFsEIuB8VNOtzV2bCB"/>
          <p:cNvPicPr/>
          <p:nvPr/>
        </p:nvPicPr>
        <p:blipFill>
          <a:blip r:embed="rId2"/>
          <a:stretch/>
        </p:blipFill>
        <p:spPr>
          <a:xfrm>
            <a:off x="5940360" y="4149720"/>
            <a:ext cx="2016360" cy="1060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ttp://t3.gstatic.com/images?q=tbn:ANd9GcRPcXKzctaw4Z95ncqfF9Xqrv9Q7sWbfK2huiAKrJUDQZRfEABOAg"/>
          <p:cNvPicPr/>
          <p:nvPr/>
        </p:nvPicPr>
        <p:blipFill>
          <a:blip r:embed="rId3"/>
          <a:stretch/>
        </p:blipFill>
        <p:spPr>
          <a:xfrm>
            <a:off x="2843280" y="32846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http://t2.gstatic.com/images?q=tbn:ANd9GcQOAEKbkQIccyxe5wK6ZW6s7gmIXKwhn1a6mDQHU6-obOAECxlh"/>
          <p:cNvPicPr/>
          <p:nvPr/>
        </p:nvPicPr>
        <p:blipFill>
          <a:blip r:embed="rId4"/>
          <a:stretch/>
        </p:blipFill>
        <p:spPr>
          <a:xfrm>
            <a:off x="2050920" y="5013360"/>
            <a:ext cx="1600200" cy="120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a fotosíntesis y las redes alimenta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glucosa como los nutrimentos que elaboran las plantas son materiales que contienen energía, los heterótrofos se alimentan de los autótrofos y obtienen materiales y energ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red alimentaria incluye a todas especies animales y vege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://t1.gstatic.com/images?q=tbn:ANd9GcTB7yBiP-KBDbxROpsIGuvt-lP8c8LgHVgMu8J5cGkUdaDqRjID5qLm5iC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5214960"/>
            <a:ext cx="1095480" cy="1390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t3.gstatic.com/images?q=tbn:ANd9GcTGKGzQHuKi2vxHygPU7rESJKo3KFkulqMjIr9oHiurrO0dHtZMLSclPQ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71880" y="5357880"/>
            <a:ext cx="1181160" cy="112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t2.gstatic.com/images?q=tbn:ANd9GcQNpBAnrqwe_8K-bZxfnD6rIumGI9zdKf7HZShOrPyvnT41fQjILE6-B8g"/>
          <p:cNvPicPr/>
          <p:nvPr/>
        </p:nvPicPr>
        <p:blipFill>
          <a:blip r:embed="rId6"/>
          <a:stretch/>
        </p:blipFill>
        <p:spPr>
          <a:xfrm>
            <a:off x="5000760" y="521496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t2.gstatic.com/images?q=tbn:ANd9GcQe_JW04Yg4GZkdFfKz0-3dpWELVMgrI8PCXJWBwz005lah9QbZLyevOw"/>
          <p:cNvPicPr/>
          <p:nvPr/>
        </p:nvPicPr>
        <p:blipFill>
          <a:blip r:embed="rId7"/>
          <a:stretch/>
        </p:blipFill>
        <p:spPr>
          <a:xfrm>
            <a:off x="6643800" y="5429160"/>
            <a:ext cx="981000" cy="1028880"/>
          </a:xfrm>
          <a:prstGeom prst="rect">
            <a:avLst/>
          </a:prstGeom>
          <a:ln w="0">
            <a:noFill/>
          </a:ln>
        </p:spPr>
      </p:pic>
      <p:cxnSp>
        <p:nvCxnSpPr>
          <p:cNvPr id="122" name="8 Conector recto de flecha"/>
          <p:cNvCxnSpPr/>
          <p:nvPr/>
        </p:nvCxnSpPr>
        <p:spPr>
          <a:xfrm>
            <a:off x="2357280" y="5857920"/>
            <a:ext cx="572400" cy="2160"/>
          </a:xfrm>
          <a:prstGeom prst="straightConnector1">
            <a:avLst/>
          </a:prstGeom>
          <a:ln w="50760">
            <a:solidFill>
              <a:srgbClr val="ff33cc"/>
            </a:solidFill>
            <a:miter/>
            <a:tailEnd len="med" type="arrow" w="med"/>
          </a:ln>
        </p:spPr>
      </p:cxnSp>
      <p:cxnSp>
        <p:nvCxnSpPr>
          <p:cNvPr id="123" name="9 Conector recto de flecha"/>
          <p:cNvCxnSpPr/>
          <p:nvPr/>
        </p:nvCxnSpPr>
        <p:spPr>
          <a:xfrm>
            <a:off x="4357440" y="5857920"/>
            <a:ext cx="572040" cy="2160"/>
          </a:xfrm>
          <a:prstGeom prst="straightConnector1">
            <a:avLst/>
          </a:prstGeom>
          <a:ln w="50760">
            <a:solidFill>
              <a:srgbClr val="ff33cc"/>
            </a:solidFill>
            <a:miter/>
            <a:tailEnd len="med" type="arrow" w="med"/>
          </a:ln>
        </p:spPr>
      </p:cxnSp>
      <p:cxnSp>
        <p:nvCxnSpPr>
          <p:cNvPr id="124" name="10 Conector recto de flecha"/>
          <p:cNvCxnSpPr/>
          <p:nvPr/>
        </p:nvCxnSpPr>
        <p:spPr>
          <a:xfrm>
            <a:off x="6000480" y="5857920"/>
            <a:ext cx="572040" cy="2160"/>
          </a:xfrm>
          <a:prstGeom prst="straightConnector1">
            <a:avLst/>
          </a:prstGeom>
          <a:ln w="50760">
            <a:solidFill>
              <a:srgbClr val="ff33cc"/>
            </a:solidFill>
            <a:miter/>
            <a:tailEnd len="med" type="arrow" w="med"/>
          </a:ln>
        </p:spPr>
      </p:cxn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nutrición de los seres vivos: diversidad y adap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mparación de organismos heterótrofos y autótrof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nálisis de algunas adaptaciones en la nutrición de los seres vivos: la interacción depredador – pre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aloración de la importancia de la fotosíntesis como proceso de transformación de energía y como base las cadenas aliment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paración de organismos Heterótrofos y Autótrof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son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eterótrofos: se alimentan de otros organism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utótrofos: utilizan la energía del sol para elaborar su propio alimen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http://t1.gstatic.com/images?q=tbn:ANd9GcQoPkxM09PszbAJeQU8PqwSXtfId3DuiaKjQ99xCaVblLJncKM2"/>
          <p:cNvPicPr/>
          <p:nvPr/>
        </p:nvPicPr>
        <p:blipFill>
          <a:blip r:embed="rId2"/>
          <a:stretch/>
        </p:blipFill>
        <p:spPr>
          <a:xfrm>
            <a:off x="3132000" y="2852640"/>
            <a:ext cx="3009960" cy="130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ttp://t1.gstatic.com/images?q=tbn:ANd9GcSYvNr1ShIX6_V_FUaccq42XXmX31iB01xrROWQnIfWXBeF4QDa"/>
          <p:cNvPicPr/>
          <p:nvPr/>
        </p:nvPicPr>
        <p:blipFill>
          <a:blip r:embed="rId3"/>
          <a:stretch/>
        </p:blipFill>
        <p:spPr>
          <a:xfrm>
            <a:off x="3635280" y="5084640"/>
            <a:ext cx="1317600" cy="1546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20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nutrición de los cinco re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acterias: autótrofas y heterótrof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tistas: hay autótrofas y heterótrof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ngos: todos son heterótrof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http://www.windows2universe.org/life/images/protista_sm.jpg"/>
          <p:cNvPicPr/>
          <p:nvPr/>
        </p:nvPicPr>
        <p:blipFill>
          <a:blip r:embed="rId2"/>
          <a:stretch/>
        </p:blipFill>
        <p:spPr>
          <a:xfrm>
            <a:off x="3635280" y="3500280"/>
            <a:ext cx="1600200" cy="1067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https://naturzientziak.wikispaces.com/file/view/hongos0001.jpg/75498313/hongos0001.jpg"/>
          <p:cNvPicPr/>
          <p:nvPr/>
        </p:nvPicPr>
        <p:blipFill>
          <a:blip r:embed="rId3"/>
          <a:stretch/>
        </p:blipFill>
        <p:spPr>
          <a:xfrm>
            <a:off x="3995640" y="5229360"/>
            <a:ext cx="1190880" cy="1250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ANd9GcTPlPMGV-cHWv6UwrDlVVGCEOApTTrvjh-OGqgEXIJl2Wl7OPj-RQ"/>
          <p:cNvPicPr/>
          <p:nvPr/>
        </p:nvPicPr>
        <p:blipFill>
          <a:blip r:embed="rId4"/>
          <a:stretch/>
        </p:blipFill>
        <p:spPr>
          <a:xfrm>
            <a:off x="3851280" y="1773360"/>
            <a:ext cx="1608120" cy="123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3739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tas: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mayoría son autótrofas; unas cuantas especies son heterótrof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nimales: todos son heterótrof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http://esjardineria.com/wp-content/uploads/2008/07/plantcaar2.jpg"/>
          <p:cNvPicPr/>
          <p:nvPr/>
        </p:nvPicPr>
        <p:blipFill>
          <a:blip r:embed="rId2"/>
          <a:stretch/>
        </p:blipFill>
        <p:spPr>
          <a:xfrm>
            <a:off x="3132000" y="1700280"/>
            <a:ext cx="2448000" cy="183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http://t0.gstatic.com/images?q=tbn:ANd9GcQVvPAiirqm_p9zyVCFhoNNARneZzdNKh7IiNKzwCmiboTKa39E"/>
          <p:cNvPicPr/>
          <p:nvPr/>
        </p:nvPicPr>
        <p:blipFill>
          <a:blip r:embed="rId3"/>
          <a:stretch/>
        </p:blipFill>
        <p:spPr>
          <a:xfrm>
            <a:off x="3132000" y="4508640"/>
            <a:ext cx="2476800" cy="17589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136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bacteri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son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organismos unicelu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bitan en el agua, en luga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úmedo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bacterias autótrof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imiosinteticas y fotosinté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 producen los nutrimient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http://t3.gstatic.com/images?q=tbn:ANd9GcQcwC_kleP9GkUcO0hRPxxD6tae6dm8ucIwlsjD0WZLxg2XOBUV"/>
          <p:cNvPicPr/>
          <p:nvPr/>
        </p:nvPicPr>
        <p:blipFill>
          <a:blip r:embed="rId2"/>
          <a:stretch/>
        </p:blipFill>
        <p:spPr>
          <a:xfrm>
            <a:off x="6388200" y="1557360"/>
            <a:ext cx="2000160" cy="1584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http://t3.gstatic.com/images?q=tbn:ANd9GcQmGH4dZ1oIrPvdMzGZt5dslJs0M8YYZaf1gOyi4FaBZLLiBdX0"/>
          <p:cNvPicPr/>
          <p:nvPr/>
        </p:nvPicPr>
        <p:blipFill>
          <a:blip r:embed="rId3"/>
          <a:stretch/>
        </p:blipFill>
        <p:spPr>
          <a:xfrm>
            <a:off x="755640" y="4221000"/>
            <a:ext cx="1876320" cy="14115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136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proti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organismo unicelulares que viven en el agua y en lugares muy húme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ay protistas depredadores como el paramecio y cierto tipos de amebas, que se alimentan de bacterias, levaduras y otros protistas qué viven en su med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ttp://t2.gstatic.com/images?q=tbn:ANd9GcQfF_FKVWYWsoPnw0H2kIsXEJe-LoTXYvkFRc2tveQkxSQZSTz43A"/>
          <p:cNvPicPr/>
          <p:nvPr/>
        </p:nvPicPr>
        <p:blipFill>
          <a:blip r:embed="rId2"/>
          <a:stretch/>
        </p:blipFill>
        <p:spPr>
          <a:xfrm>
            <a:off x="2771640" y="2373480"/>
            <a:ext cx="2232000" cy="1123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Nd9GcTZmiUA3GkuJFXKkGBxQ3ZhgGt_MQ_UNj8O-awN47S9NpIMFBOOZg"/>
          <p:cNvPicPr/>
          <p:nvPr/>
        </p:nvPicPr>
        <p:blipFill>
          <a:blip r:embed="rId3"/>
          <a:stretch/>
        </p:blipFill>
        <p:spPr>
          <a:xfrm>
            <a:off x="6804000" y="4941720"/>
            <a:ext cx="1030320" cy="1756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hong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ayoría son pluricelulares. Todos son heterótrofos unos son saprofito, parásitos y depred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ANd9GcREL75DJb3r5EaXVkUnIhrbGwUWrQzxWbH4p_-sBD3-q7RxHXkP1Q"/>
          <p:cNvPicPr/>
          <p:nvPr/>
        </p:nvPicPr>
        <p:blipFill>
          <a:blip r:embed="rId1"/>
          <a:stretch/>
        </p:blipFill>
        <p:spPr>
          <a:xfrm>
            <a:off x="3059280" y="34290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pla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Son pluricelulares, hay tanto acuáticas como terrestres la mayora son autótrofas fotosintéticas y habitan en los ecosistemas del planet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Acuática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Terrestr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http://www.estanques.net/wp-content/uploads/2007/11/nimphaea.jpg"/>
          <p:cNvPicPr/>
          <p:nvPr/>
        </p:nvPicPr>
        <p:blipFill>
          <a:blip r:embed="rId2"/>
          <a:stretch/>
        </p:blipFill>
        <p:spPr>
          <a:xfrm>
            <a:off x="3132000" y="3392640"/>
            <a:ext cx="2232000" cy="1120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http://t2.gstatic.com/images?q=tbn:ANd9GcSLiYDd51ahOQRAXZvBgcNGjj-Ia8c8o2nhzzEujaWXTHJSHnaj"/>
          <p:cNvPicPr/>
          <p:nvPr/>
        </p:nvPicPr>
        <p:blipFill>
          <a:blip r:embed="rId3"/>
          <a:stretch/>
        </p:blipFill>
        <p:spPr>
          <a:xfrm>
            <a:off x="2268360" y="4941720"/>
            <a:ext cx="2232360" cy="1293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9:13:26Z</dcterms:created>
  <dc:creator>sandy</dc:creator>
  <dc:description/>
  <dc:language>en-US</dc:language>
  <cp:lastModifiedBy>usuario</cp:lastModifiedBy>
  <dcterms:modified xsi:type="dcterms:W3CDTF">2011-06-10T12:28:06Z</dcterms:modified>
  <cp:revision>10</cp:revision>
  <dc:subject/>
  <dc:title>La nutrición de los seres vivos: diversidad y adaptación</dc:title>
</cp:coreProperties>
</file>